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533-04BE-4A84-819C-4E38BD2C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DB3-A834-49D0-AD30-00CDF47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6C6-A5E5-404D-9CAE-7A6BD286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75F-9B1A-429B-93FF-AF85BC70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2E6-D84B-4FF7-861C-BDA03A7A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637-506D-4C97-95E4-84E0FE5F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0A1-205D-4AB6-9C07-7C3CF828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FA9-2C0A-4CA1-BF69-1FB69C0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107-B5F5-4852-A8B9-042655B2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083-F3BD-403E-88FF-3BC6F25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105-CB9C-4E7F-B42D-37CA2FF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8AF-EB56-4B05-B1D6-03853AD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479-BE9C-4FA5-9F0C-9CBF1730A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Clase 6 NH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20 de enero del 2011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34: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¿De dónde  son usted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TEXTBOOK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4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p. R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Quién er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e qué nacionalidad er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ónde eres alumno o alumn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s tu escuela?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COPIA y comple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5</a:t>
            </a: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 p. R5 (1-10)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Yo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1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un amigo de Andrés. Andrés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2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 muy simpático. Y él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3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 gracioso.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Andrés y yo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4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_ dominicanos.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5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de la Republica Dominicana.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La Capital de la Republica Dominicana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6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Santo Domingo. Nosotros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7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 alumnos en el colegio Santo Domingo. Nosotros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8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alumnos de ingles. La profesora de ingles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9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la señorita White. Ella </a:t>
            </a:r>
            <a:r>
              <a:rPr b="0" i="1" lang="es-ES_tradnl" sz="2000" spc="-1" strike="noStrike">
                <a:solidFill>
                  <a:srgbClr val="ffffff"/>
                </a:solidFill>
                <a:latin typeface="CAC Futura Casual"/>
              </a:rPr>
              <a:t>(10)</a:t>
            </a: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_______ americana.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34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Escribe 10 oraciones originales con el verbo SER. </a:t>
            </a:r>
            <a:r>
              <a:rPr b="0" i="1" lang="en-US" sz="3200" spc="-1" strike="noStrike">
                <a:solidFill>
                  <a:srgbClr val="ffffff"/>
                </a:solidFill>
                <a:latin typeface="CAC Futura Casual"/>
              </a:rPr>
              <a:t>(solo puedes usar el pronombre YO 1 vez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42:38Z</dcterms:created>
  <dc:creator>Helen Zumaeta</dc:creator>
  <dc:description/>
  <dc:language>en-US</dc:language>
  <cp:lastModifiedBy>Helen Zumaeta</cp:lastModifiedBy>
  <dcterms:modified xsi:type="dcterms:W3CDTF">2012-01-20T17:47:13Z</dcterms:modified>
  <cp:revision>3</cp:revision>
  <dc:subject/>
  <dc:title>Me llamo __________ Clase 6 NH La fecha es el 20 de enero del 2011</dc:title>
</cp:coreProperties>
</file>